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4EF-E2AE-4B9C-B6C0-81EE4588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E82-AFF6-4EF7-BC8D-93BA8687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94A-5112-4B38-943A-550B08F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96B-2DD0-4F45-96D9-661230B9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678-FD94-4D82-8083-D184C22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4D6-5719-4180-8E5C-C18F47D8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BE9-23FE-4DCD-8091-448E79DC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5A0-1DDF-4A2E-9E57-C935CC40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793-8490-49A9-B18B-C4FD4D0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298-30B1-400A-BB6A-462D4E8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2D5-09B7-4453-904C-8E8A1FB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8BD-D825-4339-A27C-B6264BF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3B4E-41F4-420F-862C-9CE95D081F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080" y="69192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800000"/>
                </a:solidFill>
                <a:latin typeface="AnastasiaScript"/>
              </a:rPr>
              <a:t>Этот день победы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5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5961240" cy="4248360"/>
          </a:xfrm>
          <a:prstGeom prst="rect">
            <a:avLst/>
          </a:prstGeom>
          <a:ln w="0">
            <a:noFill/>
          </a:ln>
        </p:spPr>
      </p:pic>
      <p:pic>
        <p:nvPicPr>
          <p:cNvPr id="44" name="den_pobedy_-_den_pobedy_(zaycev.net).mp3" descr=""/>
          <p:cNvPicPr/>
          <p:nvPr/>
        </p:nvPicPr>
        <p:blipFill>
          <a:blip r:embed="rId3"/>
          <a:stretch/>
        </p:blipFill>
        <p:spPr>
          <a:xfrm>
            <a:off x="846144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7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AnastasiaScript"/>
              </a:rPr>
              <a:t>Солдаты писали пись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456000" cy="461664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3"/>
          <a:stretch/>
        </p:blipFill>
        <p:spPr>
          <a:xfrm>
            <a:off x="3995640" y="1413000"/>
            <a:ext cx="469116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nastasiaScript"/>
              </a:rPr>
              <a:t>Дети – герои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446400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5" descr=""/>
          <p:cNvPicPr/>
          <p:nvPr/>
        </p:nvPicPr>
        <p:blipFill>
          <a:blip r:embed="rId3"/>
          <a:stretch/>
        </p:blipFill>
        <p:spPr>
          <a:xfrm>
            <a:off x="4140360" y="1413000"/>
            <a:ext cx="454644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nastasiaScript"/>
              </a:rPr>
              <a:t>Были разрушены дома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330800" cy="410400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7" descr=""/>
          <p:cNvPicPr/>
          <p:nvPr/>
        </p:nvPicPr>
        <p:blipFill>
          <a:blip r:embed="rId3"/>
          <a:stretch/>
        </p:blipFill>
        <p:spPr>
          <a:xfrm>
            <a:off x="457200" y="1268280"/>
            <a:ext cx="41148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nastasiaScript"/>
              </a:rPr>
              <a:t>И памятники архитектуры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Объект 5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403440" cy="460836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7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336384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nastasiaScript"/>
              </a:rPr>
              <a:t> </a:t>
            </a:r>
            <a:r>
              <a:rPr b="0" lang="ru-RU" sz="5400" spc="-1" strike="noStrike">
                <a:solidFill>
                  <a:srgbClr val="800000"/>
                </a:solidFill>
                <a:latin typeface="AnastasiaScript"/>
              </a:rPr>
              <a:t>ПОБЕДА</a:t>
            </a:r>
            <a:r>
              <a:rPr b="0" lang="ru-RU" sz="7200" spc="-1" strike="noStrike">
                <a:solidFill>
                  <a:srgbClr val="800000"/>
                </a:solidFill>
                <a:latin typeface="AnastasiaScript"/>
              </a:rPr>
              <a:t>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6040440" cy="482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6330960" y="3933720"/>
            <a:ext cx="2790720" cy="219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330960" y="1628640"/>
            <a:ext cx="279072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671640" cy="460836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5" descr=""/>
          <p:cNvPicPr/>
          <p:nvPr/>
        </p:nvPicPr>
        <p:blipFill>
          <a:blip r:embed="rId3"/>
          <a:stretch/>
        </p:blipFill>
        <p:spPr>
          <a:xfrm>
            <a:off x="4427640" y="1628640"/>
            <a:ext cx="454644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nastasiaScript"/>
              </a:rPr>
              <a:t>Парад на Красной Площади в честь ПОБЕДЫ!!!</a:t>
            </a:r>
            <a:br>
              <a:rPr sz="4400"/>
            </a:br>
            <a:r>
              <a:rPr b="0" lang="ru-RU" sz="6000" spc="-1" strike="noStrike">
                <a:solidFill>
                  <a:srgbClr val="800000"/>
                </a:solidFill>
                <a:latin typeface="AnastasiaScript"/>
              </a:rPr>
              <a:t>1941 </a:t>
            </a:r>
            <a:r>
              <a:rPr b="0" lang="ru-RU" sz="4800" spc="-1" strike="noStrike">
                <a:solidFill>
                  <a:srgbClr val="800000"/>
                </a:solidFill>
                <a:latin typeface="AnastasiaScript"/>
              </a:rPr>
              <a:t>г</a:t>
            </a:r>
            <a:r>
              <a:rPr b="0" lang="ru-RU" sz="6000" spc="-1" strike="noStrike">
                <a:solidFill>
                  <a:srgbClr val="800000"/>
                </a:solidFill>
                <a:latin typeface="AnastasiaScript"/>
              </a:rPr>
              <a:t> – 1945 </a:t>
            </a:r>
            <a:r>
              <a:rPr b="0" lang="ru-RU" sz="4400" spc="-1" strike="noStrike">
                <a:solidFill>
                  <a:srgbClr val="800000"/>
                </a:solidFill>
                <a:latin typeface="AnastasiaScript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medal2.JPG"/>
          <p:cNvPicPr/>
          <p:nvPr/>
        </p:nvPicPr>
        <p:blipFill>
          <a:blip r:embed="rId2"/>
          <a:stretch/>
        </p:blipFill>
        <p:spPr>
          <a:xfrm>
            <a:off x="485640" y="285840"/>
            <a:ext cx="8158320" cy="62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30880" cy="489744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5" descr=""/>
          <p:cNvPicPr/>
          <p:nvPr/>
        </p:nvPicPr>
        <p:blipFill>
          <a:blip r:embed="rId3"/>
          <a:stretch/>
        </p:blipFill>
        <p:spPr>
          <a:xfrm>
            <a:off x="4716360" y="1979640"/>
            <a:ext cx="4329360" cy="461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ttp://www.kasjauns.lv/galerijas/9._maija_svinibas_krievija/15.jpg"/>
          <p:cNvPicPr/>
          <p:nvPr/>
        </p:nvPicPr>
        <p:blipFill>
          <a:blip r:embed="rId2"/>
          <a:stretch/>
        </p:blipFill>
        <p:spPr>
          <a:xfrm>
            <a:off x="149400" y="260280"/>
            <a:ext cx="4493880" cy="388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vazhno.ru/images/documents/68/68e979380d9432505a0267fd45f14060/1.jpeg"/>
          <p:cNvPicPr/>
          <p:nvPr/>
        </p:nvPicPr>
        <p:blipFill>
          <a:blip r:embed="rId3"/>
          <a:stretch/>
        </p:blipFill>
        <p:spPr>
          <a:xfrm>
            <a:off x="4788000" y="3068640"/>
            <a:ext cx="4348080" cy="364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://img0.liveinternet.ru/images/attach/c/1/59/70/59070732_001.jpg"/>
          <p:cNvPicPr/>
          <p:nvPr/>
        </p:nvPicPr>
        <p:blipFill>
          <a:blip r:embed="rId4"/>
          <a:stretch/>
        </p:blipFill>
        <p:spPr>
          <a:xfrm>
            <a:off x="149400" y="4292640"/>
            <a:ext cx="4493880" cy="2459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69920" y="404640"/>
            <a:ext cx="4465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AnastasiaScript"/>
              </a:rPr>
              <a:t>Парад Победы 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AnastasiaScript"/>
              </a:rPr>
              <a:t>в наши д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20000"/>
                </a:solidFill>
                <a:latin typeface="AnastasiaScript"/>
              </a:rPr>
              <a:t>Объявление войны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Объект 4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5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39546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i (4).jpg"/>
          <p:cNvPicPr/>
          <p:nvPr/>
        </p:nvPicPr>
        <p:blipFill>
          <a:blip r:embed="rId1"/>
          <a:stretch/>
        </p:blipFill>
        <p:spPr>
          <a:xfrm>
            <a:off x="539640" y="1125360"/>
            <a:ext cx="8121600" cy="4824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2760" y="260280"/>
            <a:ext cx="8596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nastasiaScript"/>
              </a:rPr>
              <a:t>ВЕЧНАЯ ПАМЯТЬ ГЕРОЯМ ВОЙ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52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AnastasiaScript"/>
              </a:rPr>
              <a:t>Весь народ поднялся на защиту нашей Родины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0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13600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AnastasiaScript"/>
              </a:rPr>
              <a:t>Военная техника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8" descr=""/>
          <p:cNvPicPr/>
          <p:nvPr/>
        </p:nvPicPr>
        <p:blipFill>
          <a:blip r:embed="rId2"/>
          <a:stretch/>
        </p:blipFill>
        <p:spPr>
          <a:xfrm>
            <a:off x="457200" y="1484280"/>
            <a:ext cx="4114800" cy="446580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9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0384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4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024000" cy="525636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5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557244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nastasiaScript"/>
              </a:rPr>
              <a:t>Полевая кухня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70480" cy="45370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5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431964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AnastasiaScript"/>
              </a:rPr>
              <a:t>Полевая почта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06436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32360" cy="45370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4114800" cy="460836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3"/>
          <a:stretch/>
        </p:blipFill>
        <p:spPr>
          <a:xfrm>
            <a:off x="4648320" y="141300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РУХА</cp:lastModifiedBy>
  <dcterms:modified xsi:type="dcterms:W3CDTF">2015-03-28T12:31:22Z</dcterms:modified>
  <cp:revision>49</cp:revision>
  <dc:subject/>
  <dc:title>Слайд 1</dc:title>
</cp:coreProperties>
</file>